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9.jpeg" ContentType="image/jpeg"/>
  <Override PartName="/ppt/media/image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B2DB-7761-4C39-9F98-A72F2CCC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AB4A-8EE1-4319-8CFA-B72638BF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8746-E0A3-437D-98CC-5BC019C8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008F-E828-43D3-A0AB-BF592578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37DA-3C7F-44E5-928B-80D5F650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3A7-7444-4D87-94F0-4B5CF965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EFAD-0507-4E62-BF06-5129EE76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EB7F-267F-4004-811C-79E1BCE3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FE11-F4F7-4739-A813-BD5A0664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F67E-4288-49A8-BCF7-176F6A8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8052-431D-4A12-9FFF-89A7BF5F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87E6-4416-47FC-9A13-EAA684E2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E43-13B8-4CB2-97A7-CCE4742A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04BC-AFCF-4D0A-86AA-F03723D4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43B2-27D7-4802-963A-4C73C97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0EE2-6177-4882-B6BF-E379E32B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49DF-744E-4848-9998-F166D9ED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20F8-ADE4-4AB0-AA52-83E54763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AF82-EEB6-48A1-8721-F3543A27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A6CB3-93E2-4145-9013-89382FBC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D90C-C6B7-40FD-BA7B-D2239C42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2659-575D-435D-BE26-1E13F6EB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6E65-5F10-4FDF-9531-D67CA03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5E807-6AF7-49E2-825C-38AE96C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3C4-DF0B-495B-B12C-8F6FA769A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7E0-A697-4550-93A3-F9356980A162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 Sustainable Energy Future</a:t>
            </a:r>
            <a:endParaRPr b="0" lang="en-US" sz="4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 rot="20547600">
            <a:off x="0" y="4800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Renewable, Reliable,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 rot="841800">
            <a:off x="4190760" y="5486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Clean, Efficient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Cells (Photovoltaics)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onverts sunlight to electricity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nlight strikes semi-conducto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lectrons are excited and move; creates electricity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nergy can be stored in a chemical battery for use when sunlight is absen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voltaics (Solar Cells)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4" name="Picture 3" descr="A simple photovoltaic system"/>
          <p:cNvPicPr/>
          <p:nvPr/>
        </p:nvPicPr>
        <p:blipFill>
          <a:blip r:embed="rId1"/>
          <a:stretch/>
        </p:blipFill>
        <p:spPr>
          <a:xfrm>
            <a:off x="533520" y="1752480"/>
            <a:ext cx="3047760" cy="196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hotovoltaic Electrical Generation Array."/>
          <p:cNvPicPr/>
          <p:nvPr/>
        </p:nvPicPr>
        <p:blipFill>
          <a:blip r:embed="rId2"/>
          <a:stretch/>
        </p:blipFill>
        <p:spPr>
          <a:xfrm>
            <a:off x="4343400" y="182880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4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619440" y="247644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9" name="Picture 9" descr="residential_grid_pv"/>
          <p:cNvPicPr/>
          <p:nvPr/>
        </p:nvPicPr>
        <p:blipFill>
          <a:blip r:embed="rId3"/>
          <a:stretch/>
        </p:blipFill>
        <p:spPr>
          <a:xfrm>
            <a:off x="228600" y="4038480"/>
            <a:ext cx="4038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sunpower_main"/>
          <p:cNvPicPr/>
          <p:nvPr/>
        </p:nvPicPr>
        <p:blipFill>
          <a:blip r:embed="rId1"/>
          <a:stretch/>
        </p:blipFill>
        <p:spPr>
          <a:xfrm>
            <a:off x="3895560" y="3543480"/>
            <a:ext cx="5115240" cy="321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photovoltaic-solar-panels-on-a-house-roof"/>
          <p:cNvPicPr/>
          <p:nvPr/>
        </p:nvPicPr>
        <p:blipFill>
          <a:blip r:embed="rId2"/>
          <a:stretch/>
        </p:blipFill>
        <p:spPr>
          <a:xfrm>
            <a:off x="228600" y="76212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giant_photovoltaic_array"/>
          <p:cNvPicPr/>
          <p:nvPr/>
        </p:nvPicPr>
        <p:blipFill>
          <a:blip r:embed="rId1"/>
          <a:stretch/>
        </p:blipFill>
        <p:spPr>
          <a:xfrm>
            <a:off x="457200" y="68580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olar-roadway"/>
          <p:cNvPicPr/>
          <p:nvPr/>
        </p:nvPicPr>
        <p:blipFill>
          <a:blip r:embed="rId2"/>
          <a:stretch/>
        </p:blipFill>
        <p:spPr>
          <a:xfrm>
            <a:off x="5410080" y="1600200"/>
            <a:ext cx="3286080" cy="38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Solar-Street-Light-VT109LS-SL-21H--119423"/>
          <p:cNvPicPr/>
          <p:nvPr/>
        </p:nvPicPr>
        <p:blipFill>
          <a:blip r:embed="rId3"/>
          <a:stretch/>
        </p:blipFill>
        <p:spPr>
          <a:xfrm>
            <a:off x="380880" y="3886200"/>
            <a:ext cx="1828800" cy="2381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Solar Street Light 4m"/>
          <p:cNvPicPr/>
          <p:nvPr/>
        </p:nvPicPr>
        <p:blipFill>
          <a:blip r:embed="rId4"/>
          <a:stretch/>
        </p:blipFill>
        <p:spPr>
          <a:xfrm>
            <a:off x="2666880" y="38862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hotovoltaic Solar Cell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af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xpen$ive!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eed large surface are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s there enough available sunlight in all areas?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quires a backup electricity sourc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-Thermal Systems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Used to generate High-temperature heat and electricit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entral receiver = Power Tower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/ heliosta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olar thermal pla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SolarReserve-solar-thermal-plant"/>
          <p:cNvPicPr/>
          <p:nvPr/>
        </p:nvPicPr>
        <p:blipFill>
          <a:blip r:embed="rId1"/>
          <a:stretch/>
        </p:blipFill>
        <p:spPr>
          <a:xfrm>
            <a:off x="4191120" y="457200"/>
            <a:ext cx="4762440" cy="3781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0" y="121932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ower Tower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entral Receiver Syste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3" name="Picture 8" descr="solucar"/>
          <p:cNvPicPr/>
          <p:nvPr/>
        </p:nvPicPr>
        <p:blipFill>
          <a:blip r:embed="rId2"/>
          <a:stretch/>
        </p:blipFill>
        <p:spPr>
          <a:xfrm>
            <a:off x="228600" y="4114800"/>
            <a:ext cx="4286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Solar-Thermal-Plant-photo"/>
          <p:cNvPicPr/>
          <p:nvPr/>
        </p:nvPicPr>
        <p:blipFill>
          <a:blip r:embed="rId1"/>
          <a:stretch/>
        </p:blipFill>
        <p:spPr>
          <a:xfrm>
            <a:off x="152280" y="762120"/>
            <a:ext cx="5029200" cy="2847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332-low-cost-solar-thermal-plants-at-heart-of-algerian-german-research-push"/>
          <p:cNvPicPr/>
          <p:nvPr/>
        </p:nvPicPr>
        <p:blipFill>
          <a:blip r:embed="rId2"/>
          <a:stretch/>
        </p:blipFill>
        <p:spPr>
          <a:xfrm>
            <a:off x="4800600" y="3657600"/>
            <a:ext cx="4019400" cy="3008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5257800" y="2057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olar thermal plan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57200" y="419112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il-filled pipes collect the sun’s heat energ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4114800" y="4647960"/>
            <a:ext cx="3048120" cy="75960"/>
          </a:xfrm>
          <a:prstGeom prst="line">
            <a:avLst/>
          </a:prstGeom>
          <a:ln cap="sq" w="572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nlight heats Earth’s surfa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arm air rises; cooler air replaces it (win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Wind (mechanical E) turns giant blad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nected to a generator; creates electrici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Well developed technolo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lectricity is cheaper per watt than coal produced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ew regions with consistent wind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is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nterfere with microwave communicati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Harm birds &amp; wildlif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enewable Energy Source – TH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nd every where at least part of the yea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 (4) Type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assiv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Solar Heati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Solar Water Heati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olar Cells aka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hotovoltaic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ell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olar Thermal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Syste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1" name="Picture 4" descr="MC900440405[1]"/>
          <p:cNvPicPr/>
          <p:nvPr/>
        </p:nvPicPr>
        <p:blipFill>
          <a:blip r:embed="rId1"/>
          <a:stretch/>
        </p:blipFill>
        <p:spPr>
          <a:xfrm>
            <a:off x="6324480" y="1447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5" name="Picture 3" descr="Lots of Wind Mills"/>
          <p:cNvPicPr/>
          <p:nvPr/>
        </p:nvPicPr>
        <p:blipFill>
          <a:blip r:embed="rId1"/>
          <a:stretch/>
        </p:blipFill>
        <p:spPr>
          <a:xfrm>
            <a:off x="304920" y="2685960"/>
            <a:ext cx="4267080" cy="2432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Wind mills close-up, courtesy of ESN"/>
          <p:cNvPicPr/>
          <p:nvPr/>
        </p:nvPicPr>
        <p:blipFill>
          <a:blip r:embed="rId2"/>
          <a:stretch/>
        </p:blipFill>
        <p:spPr>
          <a:xfrm>
            <a:off x="4956120" y="1905120"/>
            <a:ext cx="3492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09240"/>
            <a:ext cx="4572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ind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Picture 3" descr="wind-turbine w generator"/>
          <p:cNvPicPr/>
          <p:nvPr/>
        </p:nvPicPr>
        <p:blipFill>
          <a:blip r:embed="rId1"/>
          <a:stretch/>
        </p:blipFill>
        <p:spPr>
          <a:xfrm>
            <a:off x="457200" y="2127240"/>
            <a:ext cx="4038480" cy="329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off shore wind turbin"/>
          <p:cNvPicPr/>
          <p:nvPr/>
        </p:nvPicPr>
        <p:blipFill>
          <a:blip r:embed="rId2"/>
          <a:stretch/>
        </p:blipFill>
        <p:spPr>
          <a:xfrm>
            <a:off x="5181480" y="1066680"/>
            <a:ext cx="2895840" cy="2828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highwaywindturbine_photo"/>
          <p:cNvPicPr/>
          <p:nvPr/>
        </p:nvPicPr>
        <p:blipFill>
          <a:blip r:embed="rId3"/>
          <a:stretch/>
        </p:blipFill>
        <p:spPr>
          <a:xfrm>
            <a:off x="5181480" y="4114800"/>
            <a:ext cx="3733920" cy="2401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231840" y="609588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tp://www.youtube.com/watch?v=fNudnI5tzf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am is constructed to make a reservoi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eed height change to create enough power of moving wat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lowing water through dam turns turbines, turns generator, makes electrici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ydroelectric Power"/>
          <p:cNvPicPr/>
          <p:nvPr/>
        </p:nvPicPr>
        <p:blipFill>
          <a:blip r:embed="rId1"/>
          <a:stretch/>
        </p:blipFill>
        <p:spPr>
          <a:xfrm>
            <a:off x="228600" y="434880"/>
            <a:ext cx="8686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over Dam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6" name="Picture 3" descr="An aerial view of Hoover Dam.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ydroelectrici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lood contro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servoir for recreation &amp; irrig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isrupts ecosystems &amp; floods upstream land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remendous environmental damage during construc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am construction is extremely expens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mited to areas with rivers &amp; stream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Uses Earth’s heat to create steam to make electrici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t Dry Rock Metho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ump cold water below grou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urns to ste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tract pressurized ste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urns turbine, turns generator, creates electricit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3" name="Picture 3" descr="energy_drysteam1"/>
          <p:cNvPicPr/>
          <p:nvPr/>
        </p:nvPicPr>
        <p:blipFill>
          <a:blip r:embed="rId1"/>
          <a:stretch/>
        </p:blipFill>
        <p:spPr>
          <a:xfrm>
            <a:off x="1676520" y="1828800"/>
            <a:ext cx="5867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Geothermal Energy – Heat pumps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5" name="Picture 3" descr="Geothermal energy uses heat from under the earth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800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07096"/>
          <p:cNvPicPr/>
          <p:nvPr/>
        </p:nvPicPr>
        <p:blipFill>
          <a:blip r:embed="rId2"/>
          <a:stretch/>
        </p:blipFill>
        <p:spPr>
          <a:xfrm>
            <a:off x="4648320" y="2830680"/>
            <a:ext cx="3859200" cy="2482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5337360" y="586728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Geothermal Heat Tube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Potentially Renewable***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No greenhouse gase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Minimal environmental damage during set-up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Limited availability on Earth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Earth takes a long time to replace the heat.***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ild your home facing south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rge, double pane window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ck walls &amp; insulation on north side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crete, adobe or stone construction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enting for hot air out during summer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rapes in winter to keep heat in at nigh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ciduous trees planted on south sid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lock sunlight in summ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llow sunlight in wint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urn organic matter to produce he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ood (#1 in world usage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unicipal Waste (garbage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ar cane (Hawaii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hicken dropping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iofuel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aseou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aste to Energy Plan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94" name="Picture 3" descr="wte2"/>
          <p:cNvPicPr/>
          <p:nvPr/>
        </p:nvPicPr>
        <p:blipFill>
          <a:blip r:embed="rId1"/>
          <a:stretch/>
        </p:blipFill>
        <p:spPr>
          <a:xfrm>
            <a:off x="762120" y="1120680"/>
            <a:ext cx="76150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7" descr="biofuelsCycle"/>
          <p:cNvPicPr/>
          <p:nvPr/>
        </p:nvPicPr>
        <p:blipFill>
          <a:blip r:embed="rId1"/>
          <a:stretch/>
        </p:blipFill>
        <p:spPr>
          <a:xfrm>
            <a:off x="1752480" y="685800"/>
            <a:ext cx="5764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duces “wastes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serves fossil fuel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ll extra electricity to public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emission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xious gases release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o wants to live near a plant that burns trash or chicken poop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ffshore Turbin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milar to underwater windmill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idal Barrag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milar to hydroelectric da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ffshore Turbin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2" name="Picture 3" descr="Diagram of tidal turbine."/>
          <p:cNvPicPr/>
          <p:nvPr/>
        </p:nvPicPr>
        <p:blipFill>
          <a:blip r:embed="rId1"/>
          <a:stretch/>
        </p:blipFill>
        <p:spPr>
          <a:xfrm>
            <a:off x="304920" y="1371600"/>
            <a:ext cx="2782800" cy="5486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Picture courtesy of marineturbines.com"/>
          <p:cNvPicPr/>
          <p:nvPr/>
        </p:nvPicPr>
        <p:blipFill>
          <a:blip r:embed="rId2"/>
          <a:stretch/>
        </p:blipFill>
        <p:spPr>
          <a:xfrm>
            <a:off x="3352680" y="2438280"/>
            <a:ext cx="533412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a tidal barrage"/>
          <p:cNvPicPr/>
          <p:nvPr/>
        </p:nvPicPr>
        <p:blipFill>
          <a:blip r:embed="rId1"/>
          <a:stretch/>
        </p:blipFill>
        <p:spPr>
          <a:xfrm>
            <a:off x="304920" y="1371600"/>
            <a:ext cx="4593960" cy="480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Tidal power station in France"/>
          <p:cNvPicPr/>
          <p:nvPr/>
        </p:nvPicPr>
        <p:blipFill>
          <a:blip r:embed="rId2"/>
          <a:stretch/>
        </p:blipFill>
        <p:spPr>
          <a:xfrm>
            <a:off x="4952880" y="2509920"/>
            <a:ext cx="4191120" cy="2798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idal Barrag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ree energy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ean (non-polluting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fects ecosystem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ensive to buil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ffects shipping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32"/>
          <p:cNvSpPr/>
          <p:nvPr/>
        </p:nvSpPr>
        <p:spPr>
          <a:xfrm>
            <a:off x="7962840" y="3124080"/>
            <a:ext cx="1067040" cy="83844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ydrogen Fuel Cell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Oval 24"/>
          <p:cNvSpPr/>
          <p:nvPr/>
        </p:nvSpPr>
        <p:spPr>
          <a:xfrm>
            <a:off x="152280" y="2895480"/>
            <a:ext cx="1371600" cy="129564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24120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uel sourc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1523880" y="3581280"/>
            <a:ext cx="685800" cy="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2209680" y="3048120"/>
            <a:ext cx="2286000" cy="10972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composition of wat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H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   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+  O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508640" y="3581280"/>
            <a:ext cx="609480" cy="0"/>
          </a:xfrm>
          <a:prstGeom prst="line">
            <a:avLst/>
          </a:prstGeom>
          <a:ln cap="sq"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5143680" y="3213000"/>
            <a:ext cx="2361960" cy="68004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mbustio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H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+  O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      2H</a:t>
            </a:r>
            <a:r>
              <a:rPr b="0" lang="en-US" sz="1800" spc="-1" strike="noStrike" baseline="-25000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7505640" y="3581280"/>
            <a:ext cx="457200" cy="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8128080" y="334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2895480" y="3936960"/>
            <a:ext cx="304920" cy="0"/>
          </a:xfrm>
          <a:prstGeom prst="line">
            <a:avLst/>
          </a:prstGeom>
          <a:ln cap="sq"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cxnSp>
        <p:nvCxnSpPr>
          <p:cNvPr id="221" name="AutoShape 34"/>
          <p:cNvCxnSpPr>
            <a:stCxn id="215" idx="2"/>
            <a:endCxn id="210" idx="4"/>
          </p:cNvCxnSpPr>
          <p:nvPr/>
        </p:nvCxnSpPr>
        <p:spPr>
          <a:xfrm flipH="1" flipV="1" rot="5400000">
            <a:off x="5848200" y="1466280"/>
            <a:ext cx="153000" cy="5144400"/>
          </a:xfrm>
          <a:prstGeom prst="curvedConnector5">
            <a:avLst>
              <a:gd name="adj1" fmla="val -150000"/>
              <a:gd name="adj2" fmla="val 49996"/>
              <a:gd name="adj3" fmla="val -150000"/>
            </a:avLst>
          </a:prstGeom>
          <a:ln cap="sq"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Text Box 35"/>
          <p:cNvSpPr/>
          <p:nvPr/>
        </p:nvSpPr>
        <p:spPr>
          <a:xfrm>
            <a:off x="3733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ays or week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Text Box 36"/>
          <p:cNvSpPr/>
          <p:nvPr/>
        </p:nvSpPr>
        <p:spPr>
          <a:xfrm rot="16200000">
            <a:off x="496440" y="23986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Electricity, heat or ligh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Text Box 37"/>
          <p:cNvSpPr/>
          <p:nvPr/>
        </p:nvSpPr>
        <p:spPr>
          <a:xfrm rot="16200000">
            <a:off x="3011040" y="24498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Storage and transport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AutoShape 38"/>
          <p:cNvSpPr/>
          <p:nvPr/>
        </p:nvSpPr>
        <p:spPr>
          <a:xfrm rot="18612600">
            <a:off x="6657840" y="1606680"/>
            <a:ext cx="1752480" cy="1066680"/>
          </a:xfrm>
          <a:prstGeom prst="lightningBolt">
            <a:avLst/>
          </a:prstGeom>
          <a:solidFill>
            <a:srgbClr val="cccc00"/>
          </a:soli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Text Box 39"/>
          <p:cNvSpPr/>
          <p:nvPr/>
        </p:nvSpPr>
        <p:spPr>
          <a:xfrm rot="19887600">
            <a:off x="7086960" y="23619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Electricity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Line 40"/>
          <p:cNvSpPr/>
          <p:nvPr/>
        </p:nvSpPr>
        <p:spPr>
          <a:xfrm flipV="1">
            <a:off x="7010280" y="2590560"/>
            <a:ext cx="0" cy="60948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Text Box 41"/>
          <p:cNvSpPr/>
          <p:nvPr/>
        </p:nvSpPr>
        <p:spPr>
          <a:xfrm>
            <a:off x="5181480" y="1981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5181480" y="1828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Waste heat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 flipV="1">
            <a:off x="5867280" y="2133360"/>
            <a:ext cx="0" cy="1066680"/>
          </a:xfrm>
          <a:prstGeom prst="line">
            <a:avLst/>
          </a:prstGeom>
          <a:ln cap="rnd" w="38160">
            <a:solidFill>
              <a:srgbClr val="00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Text Box 44"/>
          <p:cNvSpPr/>
          <p:nvPr/>
        </p:nvSpPr>
        <p:spPr>
          <a:xfrm>
            <a:off x="457200" y="50292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Hydrogen energy cycl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1757160" y="58672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tp://www.pbs.org/wgbh/nova/tech/fuel-cells.htm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114300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ydrogen Fuel cells cars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4" name="Picture 7" descr="01"/>
          <p:cNvPicPr/>
          <p:nvPr/>
        </p:nvPicPr>
        <p:blipFill>
          <a:blip r:embed="rId1"/>
          <a:stretch/>
        </p:blipFill>
        <p:spPr>
          <a:xfrm>
            <a:off x="4419720" y="38862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Nissan-Hydrogen-Tour-2008"/>
          <p:cNvPicPr/>
          <p:nvPr/>
        </p:nvPicPr>
        <p:blipFill>
          <a:blip r:embed="rId2"/>
          <a:stretch/>
        </p:blipFill>
        <p:spPr>
          <a:xfrm>
            <a:off x="457200" y="3276720"/>
            <a:ext cx="3352680" cy="25192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9"/>
          <p:cNvSpPr/>
          <p:nvPr/>
        </p:nvSpPr>
        <p:spPr>
          <a:xfrm>
            <a:off x="609480" y="5943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issa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54100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Hond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8" name="Picture 12" descr="HydrogenFuelPump_550x445"/>
          <p:cNvPicPr/>
          <p:nvPr/>
        </p:nvPicPr>
        <p:blipFill>
          <a:blip r:embed="rId3"/>
          <a:stretch/>
        </p:blipFill>
        <p:spPr>
          <a:xfrm>
            <a:off x="5486400" y="457200"/>
            <a:ext cx="3352680" cy="2711520"/>
          </a:xfrm>
          <a:prstGeom prst="rect">
            <a:avLst/>
          </a:prstGeom>
          <a:ln w="0">
            <a:noFill/>
          </a:ln>
        </p:spPr>
      </p:pic>
      <p:sp>
        <p:nvSpPr>
          <p:cNvPr id="239" name="Line 15"/>
          <p:cNvSpPr/>
          <p:nvPr/>
        </p:nvSpPr>
        <p:spPr>
          <a:xfrm>
            <a:off x="7010280" y="3505320"/>
            <a:ext cx="0" cy="30456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819520" y="5867280"/>
            <a:ext cx="0" cy="45720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289548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ueling Station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3048120" y="1066680"/>
            <a:ext cx="2286000" cy="0"/>
          </a:xfrm>
          <a:prstGeom prst="line">
            <a:avLst/>
          </a:prstGeom>
          <a:ln cap="sq" w="3816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SolarPassive1"/>
          <p:cNvPicPr/>
          <p:nvPr/>
        </p:nvPicPr>
        <p:blipFill>
          <a:blip r:embed="rId1"/>
          <a:stretch/>
        </p:blipFill>
        <p:spPr>
          <a:xfrm>
            <a:off x="152280" y="3962520"/>
            <a:ext cx="4038840" cy="269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passive 1"/>
          <p:cNvPicPr/>
          <p:nvPr/>
        </p:nvPicPr>
        <p:blipFill>
          <a:blip r:embed="rId2"/>
          <a:stretch/>
        </p:blipFill>
        <p:spPr>
          <a:xfrm>
            <a:off x="3886200" y="1219320"/>
            <a:ext cx="5105520" cy="3254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nocera_schematic_x600"/>
          <p:cNvPicPr/>
          <p:nvPr/>
        </p:nvPicPr>
        <p:blipFill>
          <a:blip r:embed="rId1"/>
          <a:stretch/>
        </p:blipFill>
        <p:spPr>
          <a:xfrm>
            <a:off x="609480" y="609480"/>
            <a:ext cx="813456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Fuel Cell Unit"/>
          <p:cNvPicPr/>
          <p:nvPr/>
        </p:nvPicPr>
        <p:blipFill>
          <a:blip r:embed="rId1"/>
          <a:stretch/>
        </p:blipFill>
        <p:spPr>
          <a:xfrm>
            <a:off x="762120" y="1371600"/>
            <a:ext cx="2857320" cy="4695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onda_home_energy_station_for_hydrogen_fuel_cell_vehicles-707446"/>
          <p:cNvPicPr/>
          <p:nvPr/>
        </p:nvPicPr>
        <p:blipFill>
          <a:blip r:embed="rId2"/>
          <a:stretch/>
        </p:blipFill>
        <p:spPr>
          <a:xfrm>
            <a:off x="4267080" y="2286000"/>
            <a:ext cx="4133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What’s Next? </a:t>
            </a:r>
            <a:br>
              <a:rPr sz="4000"/>
            </a:b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hoose.  You Choose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7" name="Picture 5" descr="future-energy-top-485"/>
          <p:cNvPicPr/>
          <p:nvPr/>
        </p:nvPicPr>
        <p:blipFill>
          <a:blip r:embed="rId1"/>
          <a:stretch/>
        </p:blipFill>
        <p:spPr>
          <a:xfrm>
            <a:off x="1828800" y="1905120"/>
            <a:ext cx="55339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ouble-pane-window1"/>
          <p:cNvPicPr/>
          <p:nvPr/>
        </p:nvPicPr>
        <p:blipFill>
          <a:blip r:embed="rId1"/>
          <a:stretch/>
        </p:blipFill>
        <p:spPr>
          <a:xfrm>
            <a:off x="152280" y="2057400"/>
            <a:ext cx="22114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Interior-Passive-Solar-House-in-Texas-by-Dick-Clark-Architecture"/>
          <p:cNvPicPr/>
          <p:nvPr/>
        </p:nvPicPr>
        <p:blipFill>
          <a:blip r:embed="rId2"/>
          <a:stretch/>
        </p:blipFill>
        <p:spPr>
          <a:xfrm>
            <a:off x="2438280" y="1371600"/>
            <a:ext cx="62769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assive Sola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s there enough available sunlight in all areas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struction cos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quires backup heat sour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Water Heating </a:t>
            </a:r>
            <a:br>
              <a:rPr sz="4400"/>
            </a:b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(add this info on your chart underneath Passive Solar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ow it work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olar Collectors” on roof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ipes with water or anti-freeze are coiled through box on roof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eated water transferred to basement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eat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exchange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o fresh water; water pumped back to roof to be reheated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5" name="Picture 3" descr="DHW_house"/>
          <p:cNvPicPr/>
          <p:nvPr/>
        </p:nvPicPr>
        <p:blipFill>
          <a:blip r:embed="rId1"/>
          <a:stretch/>
        </p:blipFill>
        <p:spPr>
          <a:xfrm>
            <a:off x="914400" y="1460520"/>
            <a:ext cx="3143160" cy="510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Onroof"/>
          <p:cNvPicPr/>
          <p:nvPr/>
        </p:nvPicPr>
        <p:blipFill>
          <a:blip r:embed="rId2"/>
          <a:stretch/>
        </p:blipFill>
        <p:spPr>
          <a:xfrm>
            <a:off x="5181480" y="1371600"/>
            <a:ext cx="2590920" cy="1952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olar water heater"/>
          <p:cNvPicPr/>
          <p:nvPr/>
        </p:nvPicPr>
        <p:blipFill>
          <a:blip r:embed="rId3"/>
          <a:stretch/>
        </p:blipFill>
        <p:spPr>
          <a:xfrm>
            <a:off x="4648320" y="3429000"/>
            <a:ext cx="36241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olar Water Heating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ree energ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newab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attractiv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s there enough available sunlight in all areas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quires a backup hot water sourc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1:47:24Z</dcterms:created>
  <dc:creator>udsd</dc:creator>
  <dc:description/>
  <dc:language>en-US</dc:language>
  <cp:lastModifiedBy>MVanElli</cp:lastModifiedBy>
  <dcterms:modified xsi:type="dcterms:W3CDTF">2011-04-11T14:08:59Z</dcterms:modified>
  <cp:revision>27</cp:revision>
  <dc:subject/>
  <dc:title>A Sustainable Energy Future</dc:title>
</cp:coreProperties>
</file>